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AA4-248E-485A-BDCB-A66D7238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FC3-FA81-4FE3-A39B-C2A83D62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512-5733-4E00-857C-EDF1A09A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85C-8723-47E1-BDE6-06A2E133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3D4-3953-46A6-A1CB-CF03E0A6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7B2D-710A-4A1B-AF6E-8E420DE7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DDD-970D-4CCB-9290-DBB1B6C0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BBC-A53A-4B0E-9CB2-4570ED52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74A-2E90-4580-A483-7A42A5BE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165-A37C-4848-A155-CA042BCF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23A-9C28-4DD9-B7EB-E50CCD09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BF4-D9E8-4340-BB4B-6E4870D8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C920-999F-490D-B0FD-3CC7E3BAC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dipo_rey#El_coro" TargetMode="External"/><Relationship Id="rId2" Type="http://schemas.openxmlformats.org/officeDocument/2006/relationships/hyperlink" Target="http://es.wikipedia.org/wiki/Edipo" TargetMode="External"/><Relationship Id="rId3" Type="http://schemas.openxmlformats.org/officeDocument/2006/relationships/hyperlink" Target="http://es.wikipedia.org/wiki/Tiresias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ayo" TargetMode="External"/><Relationship Id="rId2" Type="http://schemas.openxmlformats.org/officeDocument/2006/relationships/hyperlink" Target="http://cleoppatra.com/wp-content/uploads/2007/10/templo-de-tebas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dipo_rey#Acusaciones_contra_Creont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dip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gum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nemat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7596360" y="5950080"/>
            <a:ext cx="720720" cy="431640"/>
          </a:xfrm>
          <a:prstGeom prst="rightArrow">
            <a:avLst>
              <a:gd name="adj1" fmla="val 50000"/>
              <a:gd name="adj2" fmla="val 4174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la trag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logo: Se plantea el confli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árodo: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Co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tebanos con una pleg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pisodio 1: Confrontación entre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ip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Tires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simo 1:El coro canta su desconc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pisodio 2: Se inicia la investi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simo 2: El coro medita las palabras de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ires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pisodio 3: Un mensajero trae noticias de los padres de ed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simo 3: El coro vaticina el origen de Ed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pisodio 4: El criado revela el pasado de Ed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simo 4: El coro canta a la desdicha sit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xodo: A través del mensajero se conoce el desen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índice de la traged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- Causa de la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arrol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- Consultas a Tires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- Implicación del protagonista y dudas sobre su -  ident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ncuentro con la ver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ausa de la investigac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dipo se cree capaz de averiguar quien mato a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ay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frenar la peste que el Oráculo desencadenó en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b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042920" y="1773360"/>
            <a:ext cx="2873520" cy="4140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sultas a Tires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pués de varias consultas a Tiresias los ancianos del pueblo como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eo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 inculpan del asesinato de Layo, esto hace a Edipo dudar de su ident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51640" y="1989000"/>
            <a:ext cx="2473200" cy="4027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ción del protagonista y dudas sobre su ident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2490840" cy="4309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ipo encuentra pruebas que lo inculpan del asesinato de Layo como: El lugar de su muerte, el tiempo en el que fallecio, sus rasgos fí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uentr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po descubre que él es el asesino de Layo, que este era su padre, y que esta casado con su madre gracias a la aparición de un mensajero que confirma que Edipo fue encontrado y dado en adopción, junto a otras prueb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744720" cy="360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os referentes cinemat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erda (19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hica terrible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ja de música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ento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392280" cy="430992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468360" y="6093000"/>
            <a:ext cx="790560" cy="504720"/>
          </a:xfrm>
          <a:prstGeom prst="leftArrow">
            <a:avLst>
              <a:gd name="adj1" fmla="val 50000"/>
              <a:gd name="adj2" fmla="val 391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2:01:18Z</dcterms:created>
  <dc:creator>PC</dc:creator>
  <dc:description/>
  <dc:language>en-US</dc:language>
  <cp:lastModifiedBy>PC</cp:lastModifiedBy>
  <dcterms:modified xsi:type="dcterms:W3CDTF">2010-05-21T15:19:29Z</dcterms:modified>
  <cp:revision>13</cp:revision>
  <dc:subject/>
  <dc:title>Diapositiva 1</dc:title>
</cp:coreProperties>
</file>